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656-6340-459F-80D6-74473B81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6ED-88CD-420A-992C-4BA30434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995-F23E-4A42-A527-898104A5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F20-78BA-4523-A5CA-9DABB4F3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7D1-D698-47E1-8E3E-AB7BBAE5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BC4-5A9F-4EB5-A852-76C9EFAB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6F9-88E3-4A55-8D9D-BBAA4906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D9E-FDF1-4F27-8F1E-06230FF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594-0CD1-4710-B99C-8D242AD6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1BB-B7B7-48D8-A45D-5A3AE14F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60A-3D3F-4926-B181-8B9F3768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94F-0120-4306-B091-D6341BA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9A7C-F851-4CB9-AC7D-194C9AD5448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بدي خاف من العتم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ت اللي بتعطيني الن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ش ممكن أرفض هالنعم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لي بتغمر كل الـمعم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ش ممكن أبداً يا 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رافق أوقاتي الصع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غامرني بكل مح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حوّل أحزاني زه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نت الكلمه وراح بتض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بدايـــه والنهايــ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غمه بترفرف وته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يسمعها الرايح والجاي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ايماً راح تبقى يا 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أمل تنوّرلي د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غلى عطية مح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حبّك وبروحك مسح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نجيلك صدق وحقيق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ادة حياة جديد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ها بتجدّد الروح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بفكر إني وحيد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حدك يا ربي بتقبل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خطايا بتحرر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بإمي العدرا بتجمع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طريق السماوات بز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9:52:31Z</dcterms:created>
  <dc:creator>Charbel Azar</dc:creator>
  <dc:description/>
  <dc:language>en-US</dc:language>
  <cp:lastModifiedBy>Charbel Azar</cp:lastModifiedBy>
  <dcterms:modified xsi:type="dcterms:W3CDTF">2002-07-03T11:05:52Z</dcterms:modified>
  <cp:revision>2</cp:revision>
  <dc:subject/>
  <dc:title>PowerPoint Presentation</dc:title>
</cp:coreProperties>
</file>